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7AB-BAA5-495C-8704-C618CF6C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13C-3EDF-436A-A6BB-998945C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849-605B-46FC-B5E9-6E49053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4DA-A7C1-47C9-AE85-35985F97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B58-5D7A-436A-BF1D-58042ECA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86C-2A4B-45D2-A46F-06D8859C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A53-2E4D-47BB-874E-0E6D2B97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A83-9FE9-4186-9452-9C79A8CD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80C-88A5-49F4-A576-912538C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D29-0D7A-4F45-AD00-800A9124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05F-20E7-42B5-9324-EE496E1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A18-9D41-4EC7-9862-4E836B9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136D-802F-4E76-9289-AD4EF0F4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5582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esoins en Instrumentation pour les gros Water Cerenkov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dée en v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an-E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1/0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 chiff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ille 65m diam. 65m de haut: 220kT d’eau (rappel SuperK 50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~81,000 12’’ PMTs (equi. 40% coverage 20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MPHYS : 3 puits =&gt; 440kT fiduc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ût: 300k€ (cavités) + 300k€ PMTs et électronique, HT + 100k€ usines radon– pour l’air et l’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6880" y="60404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&amp;D pour réduire les coûts (mais pas seuleme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en Cavité-détecteur: éviter un container soudé en inox =&gt; Liner à la IMB. Ex. de R&amp;D au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4640400" cy="335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3860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forcément où le LAL peu avoir un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MTs et Electronique, HT: cf. ANR 2006 projet: « PMm2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onstrateur d’une unité de détection autonome ~1m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une matrice de 4x4 PMs (8’’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PHOTON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immergé dans l’eau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IPNO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vec ASIC de lecture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allant du correcteur de Gain jusqu’à la digitization Charge et Temps, et l’unité de réseau WiFi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AP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1k€/voie tout compri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504800" cy="16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9440" y="604044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l’ANR refuse le R&amp;D dem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e de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ains canaux de physique ont besoin de tagger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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+ p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+ e</a:t>
            </a:r>
            <a:r>
              <a:rPr b="0" lang="fr-FR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’ancienne Supernova (réduction du bdf muon atmos. in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Si burning dans le cas d’une SN &lt;2k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eutrinos de réacteur (mesure des paramétres d’oscillations « de type solaire »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724280"/>
            <a:ext cx="5472360" cy="1584360"/>
          </a:xfrm>
          <a:prstGeom prst="rect">
            <a:avLst/>
          </a:prstGeom>
          <a:solidFill>
            <a:srgbClr val="6822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G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ly water soluble but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tron capture on Gd emits a 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8.0 MeV </a:t>
            </a:r>
            <a:r>
              <a:rPr b="0" lang="en-US" sz="1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tons of GdCl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 SK-III (0.2% by mass) would yield  &gt;90% neutron captures on G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est currently on the K2K 1kT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6381720"/>
            <a:ext cx="459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acom &amp; Vagins Phys. Rev. Lett.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9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17110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2600" y="4365720"/>
            <a:ext cx="2769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cuve de 1m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 l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u pure + GdC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c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27440" y="5661000"/>
            <a:ext cx="23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compatib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-GdC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r-Gd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44:59Z</dcterms:created>
  <dc:creator>J.E Campagne</dc:creator>
  <dc:description/>
  <dc:language>en-US</dc:language>
  <cp:lastModifiedBy>J.E Campagne</cp:lastModifiedBy>
  <dcterms:modified xsi:type="dcterms:W3CDTF">2006-03-21T10:45:23Z</dcterms:modified>
  <cp:revision>1</cp:revision>
  <dc:subject/>
  <dc:title>Besoins en Instrumentation pour les gros Water Cerenkov idée en vrac</dc:title>
</cp:coreProperties>
</file>